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ABDF-21F3-48B5-89B5-7D7D65E13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volution of egalitarianis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d of the Revolution eliminated most of the Loyalist aristocra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quality was the 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lea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suffrage requirements (more is bett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paration of church and st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llenges to slavery, race relations, and role of wo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ivic Virtu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mocracy dependent upon the commitment of each citizen to the common good – who better but Mother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publican Motherho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Keeper of the conscience – why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le as moral referee and civic educator for young m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ular sovereignty vs. strong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ll of Rights, strong legislatures, weak executive and judi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wer to the 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lation, lack of products, lack of markets, end of monopolies and subsidiz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cline in standard of liv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ack of common foc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struction of propert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sregard for rule of la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CAB-2FAA-4549-94A0-60AA01A4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35B-E77B-4CC1-B3F3-D38125BC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0CD-0924-458A-9E9A-578521A5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98C-E200-4767-8C05-8BA99C9A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B26DB-25D5-4A88-9DD2-CE79E593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D5259-EDF2-4255-B992-6A641780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58679-9CDB-4257-AC0C-34E39B5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1D159-6A6C-4D81-9BC5-F67ADACC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1D809-5000-4177-BA06-E791F0BF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355FE-5B86-48EF-AE4F-78359D7B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D6756-3EA3-4ED0-A750-4D720FCC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EF9-8512-4E78-8626-31E4995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787A2-D8E2-4DC4-8C70-E27EFA5D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E61CC-0A05-4889-91F1-38A197D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3D7C8-487A-452D-9A19-C108206A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0BE70-4A7D-4784-A290-7BAD4717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F73FB-96AE-4E11-9975-D4B2FD63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81A-8482-4568-9253-9D2B4342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111-3C43-4060-BB77-887B86A0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10B-19F6-4AC7-9801-CA5E670A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4B9-213A-4CB0-BCC9-00AB8B54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A69-0DF9-4DDE-8D59-410AF216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8A7-A2E9-4045-920C-A045E03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BE8-34BD-498D-BFD8-F5EAB6D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D969-2C05-4C43-A6CA-F1DEF4C2CA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6BEA-23EF-4461-816E-C182A51312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533520"/>
            <a:ext cx="76201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P REVIE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LONIZATION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CONSTR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re Coloni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w York – Had been New Netherland until Dutch were overtak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orgia – Debtor colony created to allow repayment through 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gional Differences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ther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glican, single crop, rural, labor dependent, shorter life sp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Engl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 religious, urban &amp; rural combination, diverse economy, longer life span, lowest labor nee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dd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uly middle, tolerant, independent, diverse economy, lower labor nee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lationship between the Colonies and Brita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icy of salutary neglect stimulates autonomy and self-government while fueling mercantil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ole and Purpose of Navigation Ac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uropean struggles for power move to Ame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ench Indian War – Ohio Valle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bany Plan – Common Defense against Fren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eaty of Paris 1763 – No French in North A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lamation of 1763 – No colonists west of Appalachian Mounta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Revolution Issu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Reven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ar Act (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mp Act (Most protes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wnshend A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Cont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uartering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laratory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olerable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onial respon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mp Act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Massac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s of lib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Tea Pa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mittees of correspo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/ Second Continental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ar for American Independen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 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paganda – Committees of Corresponde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litia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laration of Independe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live Branch Peti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aring the Combat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lonists ill equipped, poorly trained and led but have HOME FIELD and a motivating cau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ritish have best trained and funded army in the world fighting far from home with weak leader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volutionary Ideolog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lightenment, Egalitarianism, Civic Virtu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irth of ‘Republican Motherhood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jor issues in the new Republ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ole of popular sovereign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onomic atmosphe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atmosphe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utcomes of American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Paris 178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ependence / Territory / Resumption of T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Gover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k = no executive, no power to tax, collect, or borrow, no power to regulate trade (BI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W Ordin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ules for territories / statehoo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s lead to Constitutional Conv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ay’s Rebell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reation of a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romise = K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J Plan:   Articles of Conf with more pow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 Plan:  Three branches, bicameral leg, proportional rep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at (Connecticut) Compromise:  Proportional rep + uniform re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/5 Compromise:  Settles rep and tax status of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slave discussion till 180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doption of the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ederalist vs. Antifederali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ill of Righ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TECT INDIVIDUAL LIBERTIES FROM A STRONG GOVERN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W – First Presid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efferson vs. Hamilt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terpretation, Assumption, National Bank, Formation of two-party syste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ey actions (Whiskey Rebellion, Jay’s Treaty, Pinckney’s Treaty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ments of Farewell Addres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2 John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GW – more intellectual but no charism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Agend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ace (X,Y,Z and Convention of 1800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iminate opposition (Alien &amp; Seditio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Y / VA resolutions = nullif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ck the courts (Judiciary Act of 1801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arbury v. Madis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Colonial Ameri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ain – dominant European pow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quistadors – 3 G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mallpox and the start of slaver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3 Thomas Jeffer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volution of 180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gac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uisiana Purchase / Lewis &amp; Cla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federalist programs int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problem with France/Britain to Madison (Embargo of 1807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#4 James Madison /#5 James Monro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D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con’s Bill No 2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r of 18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t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tford Conven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Gh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riff of 1816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ectionism!!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RO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nry Clay – American Syst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nic of 181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ssouri Compromi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roe Doctri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John Marshall and the Supreme Cour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ey Decis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cCulloch v. Maryland – National Bank vs. states righ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bbons v. Ogden – Congress only has power to regulate interstate comme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artmouth v. Woodward – protects contracts against domination from state govern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d Supreme Court to define and support Federal gover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d Supreme Court to limit popular control and foster a stable business commun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6 John Quincy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rrupt Bargain (Clay = Sec of Sta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riff of 1828 (Tariff of Abominat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litical football – Scheme to create lose/lose for Ada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 oks to protect industr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deeply upset – major consumers of manufactured goo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tential intrusion into slavery – loss of prestige/power in federal govern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houn authors “The Exposition” – V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cies increase voter turnout and create the “Era of the Common Man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7 Andrew Jack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effersoni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gs to rich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oils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ecutive lead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on fir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llification cris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C vs. U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ian relo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le of the Supreme Cour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k of 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830s-1860: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stward Expansion &amp; Sectionalism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nciples that caused territorial expansion between 1815 and 1860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e sectionalism from 1810-1850 through the careers of Clay, Calhoun, and Webste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ifest Destiny and the road to wa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act of Manifest Destiny on both foreign affairs and domestic politic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 was Oregon annexed peacefully, but not Texas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sidents #8-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V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l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y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llmo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er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chan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Great Awaken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mon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seph Smit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gham You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manticism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nscendentalism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lph Waldo Emers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nry David Thoreau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ook Farm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aker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ida Communit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thanial Hawthorn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nc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rothea Dix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ace Man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mke Sister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ucretia Mott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izabeth Cady Stant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eca Falls Convention (1848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san B. Anthon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re 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lliam Lloyd Garris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Liberator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ederick Douglas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rriet Tubma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journer Truth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ig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nifest Destin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ephen Austi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m Houst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nta Ana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bster-Ashburton Treaty (1842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ld Rush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muel F. B. Mors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romise of 1850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ugitive Slave Law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nderground Railroa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rriet Beecher Stow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ansas-Nebraska Act (1854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now-Nothing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red Scott Decis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Peculiar I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lavery from the viewpoint of the slave, the slaveholder, and the non-slaveholding white Southerner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issue of slavery in the territorie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the black struggle to achieve freedom with the abolitionist struggle to free slave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lacks in the North: 1790-1860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illiam Lloyd Garrison--&gt;hero or villain of the antislavery movement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Civil War began with the Mexican War!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rtherners objected not to slaves but to the political and economic power and influence slavery gave the slaveholder in the national government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vent, person, or place as a symbol of North-South division, such as Bleeding Kansas, John Brown, or the Crittenden Compromise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uthern grievances against the North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rly  English Settlem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mestown – 1606 (Virginia Compan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oint-stock company: a group of investors who bought the right to establish New World plantations from the king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glish not prepared – high death rates from starvation and disease (wife jerk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ian relations – one sided benef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nd waster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King Philip’s War – last chance for NE Indi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Peculiar Institution I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rth-South economic differences before the Civil War that continued unresolved after it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1850s--&gt;a decade of political sectionalism and economic nationalism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le of the Supreme Court in the Civil War and Reconstructio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reakdown of both the Whig and Democratic parties in the 1850s and rise of the third party system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ruggle between the president and Congress for dominant political power within the federal government, 1850-1868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ates’ rights from 1790-1860 for all the section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hen did the Civil War become inevitable and why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hat causes of the Civil War were resolved by the Civil War and Reconstruction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the Republican Party consistent in its policies from the 1850s to 1877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omplishments and failures of Reconstructio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838080"/>
            <a:ext cx="8305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owth of Virginia (Chesapeake Region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 Rolfe – King tobacco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acts of succ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nd = end of Indi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bor =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fitability draws more coloni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gins southern single crop depe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rony of 16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rginia House of Burgess (first step to self-gov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rst shipment of African sla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ilgrims and Mass Bay Compan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itan movement in England creates need for new relig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paratists leave England to create a new community in the Americas – Mayflower 162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flower Compact – governments power comes from the consent of the govern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ss Bay Colon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gregationalists and Separatists do not tolerate religious freedom (IRONIC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ger Williams banished (creates Rhode Islan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e Hutchinson banished for preaching antinomianism (‘SAVED’ NEED NOT FOLLOW MAN’S LA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chcraft Trials – result of social and religious tens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ment of Proprietary  Colonies (Gifts from the King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yland – Lord Baltimore (Catholic) – created as a haven for Catholics became partially tolerant of Protestants (1649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nnsylvania – William Penn and the Quak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cifist, tolerant (religious and Native American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olin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rth Carolina (resembles Virginia but more independen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Carolina – settled by Englishmen from Barbados – slave trade ris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ntually most proprietary colonies returned to royal own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 Confederation leads to Dominion of 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owth of American Slaver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entured Serv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imary source of labor until Bacon’s rebell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adright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rican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 expensive with similar contracts to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velops into ‘modern’ version with elimination of rights and permanent (hereditary) status as prop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85345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90720"/>
            <a:ext cx="9144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9:28:46Z</dcterms:created>
  <dc:creator>Joeb</dc:creator>
  <dc:description/>
  <dc:language>en-US</dc:language>
  <cp:lastModifiedBy>School District U46</cp:lastModifiedBy>
  <dcterms:modified xsi:type="dcterms:W3CDTF">2009-01-12T13:08:15Z</dcterms:modified>
  <cp:revision>90</cp:revision>
  <dc:subject/>
  <dc:title>PowerPoint Presentation</dc:title>
</cp:coreProperties>
</file>